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160-3EFD-4FAC-84B6-3F75E57E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48E-FF0F-47AD-839F-9C44328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5D2-845E-4B5C-A854-2884B3B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0E0-E208-4051-9A9D-FAB9CA07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0DC6-1B03-4C56-9BF3-531ABE90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C7A-288F-4C19-B264-0CFB7C2E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F69B-11B5-4E02-BA62-BF5FA20A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6851-014B-4069-B51E-CB1F9D83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BA05-5EBB-420C-9B0C-AF7A74A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7284-2221-443F-BB67-DBCC999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814C-9ACD-4D47-BF99-04893A9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E12-01B3-47B0-91C6-E7B73457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F53E-4D6F-449C-9947-CE38619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3ADD-6E0D-4729-AD4D-D24BA82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515-8803-4928-9D36-020EA0DC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B64-7C85-452C-828C-1F10EC44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9CFB-1C86-4E71-B038-62F108C8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2C5-FC18-4626-9087-F8D81DE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7B2-B68E-4F6D-A2FB-D2C5CFDD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0B0-7624-41C2-B7AA-92798BF0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AF8-9C1B-4939-8FA7-FC45192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C4B-D79D-41DB-B664-ADDCA5A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4D5-99FE-4CA3-84A1-B9EA08F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B7B-629C-493B-B326-61A51AD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CA0-EFF9-45AB-8BBF-2500D083D6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FB4-1352-4694-BAB6-FE1BA9684EE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youtube.com/watch?v=z9xGP-FVzbY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622440" y="-73080"/>
            <a:ext cx="8332560" cy="1841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05320" y="32004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Creative Uses for</a:t>
            </a:r>
            <a:r>
              <a:rPr b="0" lang="en-US" sz="5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the Classroom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1981080"/>
            <a:ext cx="3429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7960" y="380880"/>
            <a:ext cx="426708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Fo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Leng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Pow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ypograph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Volu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alcul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Text Placeholder 12" descr=""/>
          <p:cNvPicPr/>
          <p:nvPr/>
        </p:nvPicPr>
        <p:blipFill>
          <a:blip r:embed="rId2"/>
          <a:stretch/>
        </p:blipFill>
        <p:spPr>
          <a:xfrm>
            <a:off x="449280" y="914400"/>
            <a:ext cx="3551400" cy="532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28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iPod Movie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e United States Library of Congress uploads its audio  and video  archive collection to the iTunes St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Text Placeholder 12" descr=""/>
          <p:cNvPicPr/>
          <p:nvPr/>
        </p:nvPicPr>
        <p:blipFill>
          <a:blip r:embed="rId2"/>
          <a:stretch/>
        </p:blipFill>
        <p:spPr>
          <a:xfrm>
            <a:off x="5143680" y="16686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iTUNES U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rn for fre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over iTunes U, and download even more knowledge. You’ll find lectures, discussions, language lessons, audiobooks, podcasts, and more from top universities, museums, and other cultural institutions around the worl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 rot="15787800">
            <a:off x="10398240" y="2184120"/>
            <a:ext cx="6399000" cy="329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EYOND  the Basic App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143000"/>
            <a:ext cx="3619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0,1425,sz=1&amp;i=169180,00.jpg"/>
          <p:cNvPicPr/>
          <p:nvPr/>
        </p:nvPicPr>
        <p:blipFill>
          <a:blip r:embed="rId2"/>
          <a:stretch/>
        </p:blipFill>
        <p:spPr>
          <a:xfrm>
            <a:off x="2819520" y="-63360"/>
            <a:ext cx="4952880" cy="692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17448000">
            <a:off x="5252760" y="3662280"/>
            <a:ext cx="2657520" cy="325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876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Finger Tou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71600" y="0"/>
            <a:ext cx="4876920" cy="621972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5"/>
          <p:cNvCxnSpPr/>
          <p:nvPr/>
        </p:nvCxnSpPr>
        <p:spPr>
          <a:xfrm flipV="1">
            <a:off x="1904760" y="5105160"/>
            <a:ext cx="2819880" cy="892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6"/>
          <p:cNvSpPr/>
          <p:nvPr/>
        </p:nvSpPr>
        <p:spPr>
          <a:xfrm>
            <a:off x="380880" y="61498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HO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49568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Lost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ways go HO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the iPod?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Pod touc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a portable media player and Wi-Fi mobile platform designed and marketed by Apple In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wnloading apps to iPod touch is easy. Just tap the App Store icon, browse the categories that interest you, then download your purchases wirelessly. Many apps are even fre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ver 140,000 +ap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228600" y="457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Sleep/Wak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0" y="1981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067520" y="615636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HO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97" name="Straight Arrow Connector 8"/>
          <p:cNvCxnSpPr/>
          <p:nvPr/>
        </p:nvCxnSpPr>
        <p:spPr>
          <a:xfrm flipV="1">
            <a:off x="1143000" y="2133360"/>
            <a:ext cx="2363040" cy="838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8" name="" descr=""/>
          <p:cNvPicPr/>
          <p:nvPr/>
        </p:nvPicPr>
        <p:blipFill>
          <a:blip r:embed="rId2"/>
          <a:srcRect l="20931" t="0" r="18605" b="0"/>
          <a:stretch/>
        </p:blipFill>
        <p:spPr>
          <a:xfrm>
            <a:off x="3276720" y="609480"/>
            <a:ext cx="3962160" cy="5486400"/>
          </a:xfrm>
          <a:prstGeom prst="rect">
            <a:avLst/>
          </a:prstGeom>
          <a:ln w="0">
            <a:noFill/>
          </a:ln>
        </p:spPr>
      </p:pic>
      <p:cxnSp>
        <p:nvCxnSpPr>
          <p:cNvPr id="99" name="Straight Arrow Connector 5"/>
          <p:cNvCxnSpPr/>
          <p:nvPr/>
        </p:nvCxnSpPr>
        <p:spPr>
          <a:xfrm flipV="1">
            <a:off x="2057400" y="837720"/>
            <a:ext cx="2324880" cy="473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0" name="Straight Arrow Connector 10"/>
          <p:cNvCxnSpPr/>
          <p:nvPr/>
        </p:nvCxnSpPr>
        <p:spPr>
          <a:xfrm flipH="1" flipV="1">
            <a:off x="5181120" y="5028480"/>
            <a:ext cx="137232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0" t="0" r="66007" b="0"/>
          <a:stretch/>
        </p:blipFill>
        <p:spPr>
          <a:xfrm>
            <a:off x="4800600" y="1447920"/>
            <a:ext cx="2684520" cy="4991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1523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i-Fi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66880" y="1980720"/>
            <a:ext cx="221004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89548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Wi-Fi on the  iPod touch to access the App Store and the iTunes Store, surf the web with Safari, check email with Mail, and view videos on YouTub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cc33"/>
                </a:solidFill>
                <a:latin typeface="Lucida Sans"/>
              </a:rPr>
              <a:t>ESL Pencil Bo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267080" cy="516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Each PencilBot ESL App contains 5 fun-filled activities, including feature videos and mini games.  Learners are exposed to real English in a variety of authentic real-life situations to help them build and improve their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communication skills in English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Text Placeholder 12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SIGN  4 M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-D Character can be zoomed in or out  and rotated for  to give you the best vantage point for every sign. YOU control the placement of the character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the controls to control the spe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learn the alphabet, type ABCD with no spac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Text Placeholder 12" descr=""/>
          <p:cNvPicPr/>
          <p:nvPr/>
        </p:nvPicPr>
        <p:blipFill>
          <a:blip r:embed="rId2"/>
          <a:stretch/>
        </p:blipFill>
        <p:spPr>
          <a:xfrm>
            <a:off x="1104840" y="15159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0:15:53Z</dcterms:created>
  <dc:creator>austinbryant</dc:creator>
  <dc:description/>
  <dc:language>en-US</dc:language>
  <cp:lastModifiedBy>ElizabethBryant</cp:lastModifiedBy>
  <dcterms:modified xsi:type="dcterms:W3CDTF">2010-03-09T01:00:22Z</dcterms:modified>
  <cp:revision>26</cp:revision>
  <dc:subject/>
  <dc:title>iPOD  TOUCH</dc:title>
</cp:coreProperties>
</file>